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88188" cy="9024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08FC-F66D-449B-B774-364965518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B15B-2AAC-45BD-BB17-B34CA37D1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9789-0929-4E97-9409-23AC14A6D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E52A-010E-4D77-AC39-069C39664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B9AF-FE4A-482A-A616-BA2E8DB81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80B2-4082-4295-B7F6-6121C7785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5CBB-6024-4504-AFA6-291771EAB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910B-F8CA-4159-9164-360E0852C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FF7A-FE16-416E-AA51-19E37B26E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9EE4-5F7E-4D60-B568-E138BE85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20AA-067E-4CF5-8463-1A7FEC1CE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64DF-7F61-46EC-B0FA-B3A6FCACB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6DCBD-2E4F-4F59-9578-667E8B6535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6541920" cy="17272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519480" y="2855880"/>
            <a:ext cx="138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"/>
          <p:cNvPicPr/>
          <p:nvPr/>
        </p:nvPicPr>
        <p:blipFill>
          <a:blip r:embed="rId2"/>
          <a:stretch/>
        </p:blipFill>
        <p:spPr>
          <a:xfrm>
            <a:off x="1981080" y="2819520"/>
            <a:ext cx="304812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522000" y="2097000"/>
            <a:ext cx="3329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Sent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 of an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1976400" y="210816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athematical sentence with an equal 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2890800" y="3632040"/>
            <a:ext cx="459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n equation with one or more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3804840" y="5105520"/>
            <a:ext cx="431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 value for a variable that makes 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quation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915400" cy="13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Th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8001000" cy="5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784872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Th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8229600" cy="96048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7"/>
          <p:cNvSpPr/>
          <p:nvPr/>
        </p:nvSpPr>
        <p:spPr>
          <a:xfrm>
            <a:off x="2057400" y="1981080"/>
            <a:ext cx="38088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3200400" y="2286000"/>
            <a:ext cx="4572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5867280" y="1981080"/>
            <a:ext cx="3812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"/>
          <p:cNvSpPr/>
          <p:nvPr/>
        </p:nvSpPr>
        <p:spPr>
          <a:xfrm>
            <a:off x="7162920" y="2286000"/>
            <a:ext cx="380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163440" y="533520"/>
            <a:ext cx="898056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2T22:36:22Z</dcterms:created>
  <dc:creator>Graham</dc:creator>
  <dc:description/>
  <dc:language>en-US</dc:language>
  <cp:lastModifiedBy>Sue Graham</cp:lastModifiedBy>
  <dcterms:modified xsi:type="dcterms:W3CDTF">2013-10-08T12:05:51Z</dcterms:modified>
  <cp:revision>3</cp:revision>
  <dc:subject/>
  <dc:title>Slide 1</dc:title>
</cp:coreProperties>
</file>